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DA4-8D25-40ED-BAD7-4E6E2362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F22-9E26-4537-8538-5CDCB566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272-6445-4B70-9D53-F4E2C41C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500-FD5E-474A-8879-F76B7437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5C0-0F04-4501-961D-81184EB7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BB2-C20B-4B45-951C-C9163BD8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35D-B741-4ECE-934A-ED19FF3D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5E7-3235-42A3-BC43-1307AF0B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FE5-7890-4DBB-A9D6-69F9064F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BE2-9872-484C-89E2-E84C149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3E8-25E7-4459-AA37-16D4F530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95E-94BA-4023-9DBD-DC01C043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9761-6E8A-46EA-98ED-7D4768F72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51:17Z</dcterms:created>
  <dc:creator>abeason</dc:creator>
  <dc:description/>
  <dc:language>en-US</dc:language>
  <cp:lastModifiedBy>abeason</cp:lastModifiedBy>
  <dcterms:modified xsi:type="dcterms:W3CDTF">2009-02-11T18:51:19Z</dcterms:modified>
  <cp:revision>1</cp:revision>
  <dc:subject/>
  <dc:title>Slide 1</dc:title>
</cp:coreProperties>
</file>